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F61-C2AD-4BB1-8BAE-C9D48DCF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5BEA-017E-40F6-92B5-C3D1B9EA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BCC-02D7-41CC-A500-6748AD9C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0389-E366-43CA-9A8D-C9541C45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79E-C24D-4734-BDDC-B7339DF4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F8D-5051-4A12-8A80-13A3F6E4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31EE-F7DD-42BB-8684-8C7D4797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D4A-574E-4B4B-A810-6987022A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FBA-93B6-4669-AD81-C2FD54DB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B8AF-3701-4B4E-A9EF-C51A6F7D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624-F111-410A-8A62-621257DF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0FC-9F2A-457E-9EC6-44573295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730D-934B-414F-B249-D1B5B380B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ric-carle.com/bio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ic-carle.com/bio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8320" y="1142640"/>
            <a:ext cx="4038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ric Car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520" y="3047760"/>
            <a:ext cx="358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h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lust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Eric Car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219320"/>
            <a:ext cx="35208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216080" cy="1600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5480" y="320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ric Car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2040" y="4191120"/>
            <a:ext cx="52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his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5029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pin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n th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133720"/>
            <a:ext cx="3276720" cy="378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42667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ric Carle’s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tudi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124080" y="533520"/>
            <a:ext cx="30006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ic Carle was first and illustr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657600" cy="286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3520" y="4572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 we will read books that he didn’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write, but wa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tr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List of Books"/>
          <p:cNvPicPr/>
          <p:nvPr/>
        </p:nvPicPr>
        <p:blipFill>
          <a:blip r:embed="rId2"/>
          <a:stretch/>
        </p:blipFill>
        <p:spPr>
          <a:xfrm>
            <a:off x="4038480" y="5410080"/>
            <a:ext cx="984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ric Car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ves in Massachuset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8 years 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Eric Car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523880"/>
            <a:ext cx="3520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69696"/>
                </a:solidFill>
                <a:latin typeface="Arial"/>
              </a:rPr>
              <a:t>Why does Eric Carle have a beard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79640" y="2508120"/>
            <a:ext cx="338292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ric Carle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peaks two languag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3449520" cy="2511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0" y="56386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 and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3733920"/>
            <a:ext cx="71625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ric Carle’s </a:t>
            </a:r>
            <a:br>
              <a:rPr sz="72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PhotoAlbu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3262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this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Artwork created for cover of second edition of The Very Hungry Caterpillar, pub. 1987"/>
          <p:cNvPicPr/>
          <p:nvPr/>
        </p:nvPicPr>
        <p:blipFill>
          <a:blip r:embed="rId1"/>
          <a:stretch/>
        </p:blipFill>
        <p:spPr>
          <a:xfrm>
            <a:off x="2057400" y="1600200"/>
            <a:ext cx="4952880" cy="3343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66680" y="556272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ery Hungary 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1216080" cy="1600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895480" y="3200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ric Car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32040" y="4191120"/>
            <a:ext cx="528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his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5029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e of th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2133720"/>
            <a:ext cx="3276720" cy="378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this boo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124080" cy="2527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5800" y="49528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Want to Be My Fri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6:11:09Z</dcterms:created>
  <dc:creator>owner</dc:creator>
  <dc:description/>
  <dc:language>en-US</dc:language>
  <cp:lastModifiedBy>Sandra Roby</cp:lastModifiedBy>
  <dcterms:modified xsi:type="dcterms:W3CDTF">2008-01-01T17:44:33Z</dcterms:modified>
  <cp:revision>10</cp:revision>
  <dc:subject/>
  <dc:title>Eric Carle</dc:title>
</cp:coreProperties>
</file>